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8488363" cy="5788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114440"/>
            <a:ext cx="784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000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11444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60000" y="411444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92000" y="144756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5920" y="144756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11444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92000" y="411444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5920" y="411444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b651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83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60000" y="1447560"/>
            <a:ext cx="383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8076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b651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0000" y="1447560"/>
            <a:ext cx="383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8080" y="411444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b651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83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60000" y="411444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000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114440"/>
            <a:ext cx="784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8080" y="4114440"/>
            <a:ext cx="784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6000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11444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60000" y="411444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92000" y="144756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45920" y="144756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8080" y="411444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92000" y="411444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45920" y="4114440"/>
            <a:ext cx="2527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83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60000" y="1447560"/>
            <a:ext cx="383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8076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b651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0000" y="1447560"/>
            <a:ext cx="383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11444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83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60000" y="411444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386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447560"/>
            <a:ext cx="3830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114440"/>
            <a:ext cx="7848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b6519"/>
                </a:solidFill>
                <a:latin typeface="Cooper Black"/>
              </a:rPr>
              <a:t>Click to edit the title text format</a:t>
            </a:r>
            <a:endParaRPr b="0" lang="en-US" sz="40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Click to edit the outline text format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1" marL="866880" indent="-409680">
              <a:spcBef>
                <a:spcPts val="601"/>
              </a:spcBef>
              <a:buClr>
                <a:srgbClr val="8b651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Second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2" marL="1201680" indent="-220680">
              <a:spcBef>
                <a:spcPts val="601"/>
              </a:spcBef>
              <a:buClr>
                <a:srgbClr val="8b651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Third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3" marL="1609560" indent="-228600">
              <a:spcBef>
                <a:spcPts val="601"/>
              </a:spcBef>
              <a:buClr>
                <a:srgbClr val="8b651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Fourth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8b651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Fifth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Sixth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Seventh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b6519"/>
                </a:solidFill>
                <a:latin typeface="Times New Roman"/>
              </a:rPr>
              <a:t>Click to edit the title text format</a:t>
            </a:r>
            <a:endParaRPr b="0" lang="en-US" sz="8000" spc="-1" strike="noStrike">
              <a:solidFill>
                <a:srgbClr val="8b651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b651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b6519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Second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2" marL="914400" indent="66600" algn="ctr">
              <a:spcBef>
                <a:spcPts val="601"/>
              </a:spcBef>
              <a:buClr>
                <a:srgbClr val="8b6519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Third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3" marL="1371600" indent="9360" algn="ctr">
              <a:spcBef>
                <a:spcPts val="601"/>
              </a:spcBef>
              <a:buClr>
                <a:srgbClr val="8b6519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Fourth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4" marL="1828800" algn="ctr">
              <a:spcBef>
                <a:spcPts val="601"/>
              </a:spcBef>
              <a:buClr>
                <a:srgbClr val="8b6519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Fifth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Sixth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Seventh Outline Level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b6519"/>
                </a:solidFill>
                <a:latin typeface="Cooper Black"/>
                <a:ea typeface="宋体"/>
              </a:rPr>
              <a:t>Cosmic Coincidence and Interacting Holographic </a:t>
            </a:r>
            <a:br>
              <a:rPr sz="4000"/>
            </a:br>
            <a:r>
              <a:rPr b="0" lang="en-US" sz="4000" spc="-1" strike="noStrike">
                <a:solidFill>
                  <a:srgbClr val="8b6519"/>
                </a:solidFill>
                <a:latin typeface="Cooper Black"/>
                <a:ea typeface="宋体"/>
              </a:rPr>
              <a:t>Dark Energy</a:t>
            </a:r>
            <a:endParaRPr b="0" lang="en-US" sz="4000" spc="-1" strike="noStrike">
              <a:solidFill>
                <a:srgbClr val="8b651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457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b6519"/>
                </a:solidFill>
                <a:latin typeface="隶书"/>
                <a:ea typeface="隶书"/>
              </a:rPr>
              <a:t>胡波 </a:t>
            </a:r>
            <a:r>
              <a:rPr b="1" lang="en-US" sz="2800" spc="-1" strike="noStrike">
                <a:solidFill>
                  <a:srgbClr val="8b6519"/>
                </a:solidFill>
                <a:latin typeface="隶书"/>
                <a:ea typeface="隶书"/>
              </a:rPr>
              <a:t>@ n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867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b6519"/>
                </a:solidFill>
                <a:latin typeface="Helvetica LT Std"/>
                <a:ea typeface="宋体"/>
              </a:rPr>
              <a:t>2006.10 Suz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b6519"/>
                </a:solidFill>
                <a:latin typeface="Helvetica LT Std"/>
                <a:ea typeface="宋体"/>
              </a:rPr>
              <a:t>Dark Universe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Soft 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coincidence 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d4311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/dt = 0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can only account for particular situations, e.g.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late time evolution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of the universe, since at early times, it is hard to obta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微软雅黑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(1)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size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5d4311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In more realistic model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may vary slowly with time, which is the case of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soft coincidence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. 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1500"/>
              </a:spcBef>
              <a:buClr>
                <a:srgbClr val="5d4311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Example:                                   and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= constant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,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 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one finds th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will run from an unstable but finite maximum 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微软雅黑"/>
              </a:rPr>
              <a:t>+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to a stable minimum 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微软雅黑"/>
              </a:rPr>
              <a:t>-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at late time, and 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微软雅黑"/>
              </a:rPr>
              <a:t>+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微软雅黑"/>
              </a:rPr>
              <a:t>-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. (Chimento, astro-ph/0303145)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863800" y="4208400"/>
            <a:ext cx="285912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Soft 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coincidence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However, it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might not be necessary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to have both an unstable finite maximum 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微软雅黑"/>
              </a:rPr>
              <a:t>+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and a stable minimum 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微软雅黑"/>
              </a:rPr>
              <a:t>-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close to </a:t>
            </a:r>
            <a:r>
              <a:rPr b="1" i="1" lang="en-US" sz="2400" spc="-1" strike="noStrike">
                <a:solidFill>
                  <a:srgbClr val="000000"/>
                </a:solidFill>
                <a:latin typeface="微软雅黑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(1)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1500"/>
              </a:spcBef>
              <a:buClr>
                <a:srgbClr val="8b4c19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微软雅黑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微软雅黑"/>
              </a:rPr>
              <a:t>-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is more important in the coincidence problem and presumably is determined by the physics effective at the current evolution of the universe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1500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whether or not an </a:t>
            </a:r>
            <a:r>
              <a:rPr b="1" i="1" lang="en-US" sz="2400" spc="-1" strike="noStrike">
                <a:solidFill>
                  <a:srgbClr val="000000"/>
                </a:solidFill>
                <a:latin typeface="微软雅黑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(1)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initial condition can be obtained is more related to the early evolution of the universe and determined by physics beyond the scope of this talk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Soft 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coincidence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Concentrating on 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微软雅黑"/>
              </a:rPr>
              <a:t>-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leads to more theoretical possibilities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1500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For example: if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 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is chosen to be the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future event horizon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, then only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one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positive stable minimum can be found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19520" y="2971800"/>
            <a:ext cx="285912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Soft 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coincidence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Another example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The interaction becomes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important only at late time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and will lead to a stable minimum which can mitigate the coincidence problem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If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= constant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, then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is chosen to be the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future event horizon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, 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90920" y="2044800"/>
            <a:ext cx="3605040" cy="395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743200" y="4648320"/>
            <a:ext cx="3679920" cy="39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828800" y="5715000"/>
            <a:ext cx="5823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Soft 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coincidence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One more example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 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is chosen to be the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future event horizon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, then 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8120" y="2133720"/>
            <a:ext cx="2327040" cy="425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905120" y="3733920"/>
            <a:ext cx="56116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Soft 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coincidence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Other possibilities can also be explored, such as the ca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at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late time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can be approximated by a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power law dependence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, i.e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971800" y="2819520"/>
            <a:ext cx="2965320" cy="425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4191120" cy="2702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419720" y="3733920"/>
            <a:ext cx="40384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Discussion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96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In interacting holographic dark energy framework, the coincidence problem can be relieved and many theoretical possibilities exist. 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More works are necessary for a better understanding of the nature of holographic DE and the interacting DE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More observational data may help!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4648320"/>
            <a:ext cx="739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392b6"/>
                </a:solidFill>
                <a:latin typeface="Copperplate Gothic Bold"/>
                <a:ea typeface="华文琥珀"/>
              </a:rPr>
              <a:t>To shed ligh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392b6"/>
                </a:solidFill>
                <a:latin typeface="Copperplate Gothic Bold"/>
                <a:ea typeface="华文琥珀"/>
              </a:rPr>
              <a:t>                </a:t>
            </a:r>
            <a:r>
              <a:rPr b="0" lang="en-US" sz="4800" spc="-1" strike="noStrike">
                <a:solidFill>
                  <a:srgbClr val="4392b6"/>
                </a:solidFill>
                <a:latin typeface="Copperplate Gothic Bold"/>
                <a:ea typeface="华文琥珀"/>
              </a:rPr>
              <a:t>on the dark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81080" y="2819520"/>
            <a:ext cx="55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b6519"/>
                </a:solidFill>
                <a:latin typeface="BauerBodni Titl BT"/>
                <a:ea typeface="宋体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Outline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Introduction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The framework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1" marL="866880" indent="-409680">
              <a:spcBef>
                <a:spcPts val="601"/>
              </a:spcBef>
              <a:buClr>
                <a:srgbClr val="8b651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Holographic DE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1" marL="866880" indent="-409680">
              <a:spcBef>
                <a:spcPts val="601"/>
              </a:spcBef>
              <a:buClr>
                <a:srgbClr val="8b651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Interacting DE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The coincidence problem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Discussion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876920"/>
            <a:ext cx="72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6519"/>
                </a:solidFill>
                <a:latin typeface="微软雅黑"/>
                <a:ea typeface="微软雅黑"/>
              </a:rPr>
              <a:t>Note: Based on hep-th/0601093 by Bo Hu and Yi 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Introduction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The coincidence problem: </a:t>
            </a:r>
            <a:br>
              <a:rPr sz="2400"/>
            </a:br>
            <a:br>
              <a:rPr sz="800"/>
            </a:br>
            <a:r>
              <a:rPr b="1" lang="en-US" sz="2400" spc="-1" strike="noStrike">
                <a:solidFill>
                  <a:srgbClr val="4280b4"/>
                </a:solidFill>
                <a:latin typeface="微软雅黑"/>
              </a:rPr>
              <a:t>“why are the densities of matter and dark energy of precisely the same order today?”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To understand it, we must understand first the nature and dynamical properties of the dark energy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4c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Based on</a:t>
            </a:r>
            <a:r>
              <a:rPr b="1" lang="en-US" sz="2400" spc="-1" strike="noStrike">
                <a:solidFill>
                  <a:srgbClr val="4280b4"/>
                </a:solidFill>
                <a:latin typeface="微软雅黑"/>
              </a:rPr>
              <a:t> Holographic principal,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a clear description of dark energy can be obtained. 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1500"/>
              </a:spcBef>
              <a:buClr>
                <a:srgbClr val="8b4c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The coincidence problem can be mitigated in interacting DE models.  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Holographic D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ark Energy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280b4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80b4"/>
                </a:solidFill>
                <a:latin typeface="微软雅黑"/>
              </a:rPr>
              <a:t>holographic hypothesis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: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4280b4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80b4"/>
                </a:solidFill>
                <a:latin typeface="微软雅黑"/>
              </a:rPr>
              <a:t>key issue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: what possible physical scale one can choose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constrained by the fact of the current acceleration of the universe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Example: 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1" marL="866880" indent="-409680">
              <a:spcBef>
                <a:spcPts val="601"/>
              </a:spcBef>
              <a:spcAft>
                <a:spcPts val="601"/>
              </a:spcAft>
              <a:buClr>
                <a:srgbClr val="8b651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Hubble horizon (S. D. H. Hsu, PLB 594, 13)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lvl="1" marL="866880" indent="-409680">
              <a:spcBef>
                <a:spcPts val="601"/>
              </a:spcBef>
              <a:spcAft>
                <a:spcPts val="601"/>
              </a:spcAft>
              <a:buClr>
                <a:srgbClr val="8b4c1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80b4"/>
                </a:solidFill>
                <a:latin typeface="微软雅黑"/>
              </a:rPr>
              <a:t>Future event horizon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(M. Li, PLB 603, 1 )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525780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Interacting D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ark 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E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nergy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DM and DE are postulated to be coupled: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6519"/>
              </a:solidFill>
              <a:latin typeface="微软雅黑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  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which lead to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457200" indent="-457200">
              <a:spcBef>
                <a:spcPts val="700"/>
              </a:spcBef>
              <a:buClr>
                <a:srgbClr val="5d4311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Constraints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1" lang="en-US" sz="2800" spc="-1" strike="noStrike">
              <a:solidFill>
                <a:srgbClr val="8b6519"/>
              </a:solidFill>
              <a:latin typeface="微软雅黑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66880" y="2028960"/>
            <a:ext cx="3473640" cy="788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743200" y="4927680"/>
            <a:ext cx="233532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739960" y="3400560"/>
            <a:ext cx="3525840" cy="744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133720" y="5410080"/>
            <a:ext cx="47545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Interacting Holographic 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DE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From the first Friedmann equation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 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then one obtains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From the equation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8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d4311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are not independent quantities but related by the above equations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0400" y="1979640"/>
            <a:ext cx="2062080" cy="382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90920" y="2755800"/>
            <a:ext cx="4362480" cy="565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514600" y="3886200"/>
            <a:ext cx="39704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Interacting Holographic </a:t>
            </a:r>
            <a:r>
              <a:rPr b="1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DE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Constraint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 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or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Example: particle horizon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   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5553360" cy="790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05120" y="3048120"/>
            <a:ext cx="5432400" cy="790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133720" y="4495680"/>
            <a:ext cx="5137200" cy="731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676520" y="5410080"/>
            <a:ext cx="528948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7162560" y="5334120"/>
            <a:ext cx="609480" cy="5331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5257800"/>
            <a:ext cx="380880" cy="6094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6519"/>
                </a:solidFill>
                <a:latin typeface="Cooper Black"/>
              </a:rPr>
              <a:t>The coincidence problem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In the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SM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with a c.c. and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vanishing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only when </a:t>
            </a:r>
            <a:r>
              <a:rPr b="1" i="1" lang="en-US" sz="2400" spc="-1" strike="noStrike">
                <a:solidFill>
                  <a:srgbClr val="000000"/>
                </a:solidFill>
                <a:latin typeface="微软雅黑"/>
              </a:rPr>
              <a:t>t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is around </a:t>
            </a:r>
            <a:r>
              <a:rPr b="1" i="1" lang="en-US" sz="2400" spc="-1" strike="noStrike">
                <a:solidFill>
                  <a:srgbClr val="000000"/>
                </a:solidFill>
                <a:latin typeface="微软雅黑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微软雅黑"/>
              </a:rPr>
              <a:t>0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that </a:t>
            </a:r>
            <a:r>
              <a:rPr b="1" i="1" lang="en-US" sz="2400" spc="-1" strike="noStrike">
                <a:solidFill>
                  <a:srgbClr val="000000"/>
                </a:solidFill>
                <a:latin typeface="微软雅黑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微软雅黑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(1)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1500"/>
              </a:spcBef>
              <a:buClr>
                <a:srgbClr val="4392b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Non-vanishing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may change the dynamics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greatly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In </a:t>
            </a:r>
            <a:r>
              <a:rPr b="1" lang="en-US" sz="2400" spc="-1" strike="noStrike">
                <a:solidFill>
                  <a:srgbClr val="4392b6"/>
                </a:solidFill>
                <a:latin typeface="微软雅黑"/>
              </a:rPr>
              <a:t>interacting holographic dark energy models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, the coincidence problem and the holographic  nature of dark energy can be studied from different points of views, theoretically or phenomenologically.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3971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b6519"/>
                </a:solidFill>
                <a:latin typeface="Cooper Black"/>
                <a:ea typeface="宋体"/>
              </a:rPr>
              <a:t>Example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r/dt = 0</a:t>
            </a:r>
            <a:endParaRPr b="0" lang="en-US" sz="3600" spc="-1" strike="noStrike">
              <a:solidFill>
                <a:srgbClr val="8b6519"/>
              </a:solidFill>
              <a:latin typeface="Cooper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If            then from the Friedmann equation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 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and consequently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8b6519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Now if                                   then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b6519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   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or 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8b6519"/>
                </a:solidFill>
                <a:latin typeface="微软雅黑"/>
              </a:rPr>
              <a:t> is set to be the future event horizon, then</a:t>
            </a:r>
            <a:endParaRPr b="1" lang="en-US" sz="2400" spc="-1" strike="noStrike">
              <a:solidFill>
                <a:srgbClr val="8b6519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11360" y="1523880"/>
            <a:ext cx="836640" cy="28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352680" y="1981080"/>
            <a:ext cx="2144880" cy="381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600200" y="3048120"/>
            <a:ext cx="6342120" cy="71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475000" y="3946680"/>
            <a:ext cx="2859120" cy="37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2743200" y="4527720"/>
            <a:ext cx="2813040" cy="37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057400" y="5594400"/>
            <a:ext cx="495612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7:42:07Z</dcterms:created>
  <dc:creator>kmiller</dc:creator>
  <dc:description/>
  <dc:language>en-US</dc:language>
  <cp:lastModifiedBy>User</cp:lastModifiedBy>
  <dcterms:modified xsi:type="dcterms:W3CDTF">2006-11-05T17:46:19Z</dcterms:modified>
  <cp:revision>79</cp:revision>
  <dc:subject/>
  <dc:title>Slide 1</dc:title>
</cp:coreProperties>
</file>