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CF9-4E83-4D33-AA63-F4BB045D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8DC-DD38-4758-981D-8F7E66A9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1A0-EC9D-465F-BD3F-A4A9EC15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41C-A4AB-4856-B409-0025A29E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130-6988-44C2-85F6-6F8A1153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FC0-2FE4-4B43-B16B-39F48315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BDE-9DCE-46F9-8294-1438FE07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0B2-99FD-4DD0-B204-B717044E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A7C-CC1B-40C6-B70F-D167E973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305-2F15-4FBE-9796-1A5E6EEA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B1D-9571-4502-BB34-7DFB6AFE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C8E-57D5-42D3-9DEA-281CBDE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F96C-92FE-446E-9B03-1EC480F711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9.wmf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wmf"/><Relationship Id="rId8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4.wmf"/><Relationship Id="rId10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6.wmf"/><Relationship Id="rId6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4.wmf"/><Relationship Id="rId1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6.wmf"/><Relationship Id="rId6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0.wmf"/><Relationship Id="rId10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6.wmf"/><Relationship Id="rId1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wmf"/><Relationship Id="rId1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6336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inbow Gravity and the Very Early Uni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357360"/>
            <a:ext cx="44640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ff"/>
                </a:solidFill>
                <a:latin typeface="Arial"/>
              </a:rPr>
              <a:t>Yi 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ff"/>
                </a:solidFill>
                <a:latin typeface="Arial"/>
              </a:rPr>
              <a:t>Center for Gravity and Relativistic Astrophy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ff"/>
                </a:solidFill>
                <a:latin typeface="Arial"/>
              </a:rPr>
              <a:t>Nanchang University,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ff"/>
                </a:solidFill>
                <a:latin typeface="Arial"/>
              </a:rPr>
              <a:t>Nov. 4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5734080"/>
            <a:ext cx="65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6 Workshop on Dark Universe, Suzh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832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ubly Special Relativity(DS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ivity of inertial frames, two universal constan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In the limit                 , the speed of a photon goes to 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al constan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   in the above condition is also a universal con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771640" y="2060640"/>
          <a:ext cx="1295640" cy="44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060640"/>
                    <a:ext cx="12956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403280" y="2924280"/>
          <a:ext cx="422280" cy="44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2924280"/>
                    <a:ext cx="4222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708360" y="2565360"/>
          <a:ext cx="193680" cy="239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8360" y="2565360"/>
                    <a:ext cx="19368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547640" y="5589720"/>
          <a:ext cx="6481800" cy="725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7640" y="5589720"/>
                    <a:ext cx="64818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826920" y="443700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result, the invariant of energy and momentum is modifie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64000" y="3645000"/>
          <a:ext cx="1306440" cy="555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64000" y="3645000"/>
                    <a:ext cx="13064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7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n-linear Lorentz transformation in DSR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omentum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50920" y="1989000"/>
          <a:ext cx="367848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989000"/>
                    <a:ext cx="367848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50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 key issues in D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inition of position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03640" y="1773360"/>
            <a:ext cx="2376000" cy="2302920"/>
            <a:chOff x="3203640" y="1773360"/>
            <a:chExt cx="2376000" cy="2302920"/>
          </a:xfrm>
        </p:grpSpPr>
        <p:sp>
          <p:nvSpPr>
            <p:cNvPr id="132" name=""/>
            <p:cNvSpPr/>
            <p:nvPr/>
          </p:nvSpPr>
          <p:spPr>
            <a:xfrm>
              <a:off x="3203640" y="1773360"/>
              <a:ext cx="891000" cy="85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97920" y="2223720"/>
              <a:ext cx="143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03640" y="3225240"/>
              <a:ext cx="891000" cy="85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88640" y="3225240"/>
              <a:ext cx="891000" cy="85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88640" y="1773360"/>
              <a:ext cx="891000" cy="85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8960" y="3776040"/>
              <a:ext cx="143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85360" y="2424600"/>
              <a:ext cx="0" cy="110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4194000" y="1923480"/>
            <a:ext cx="322200" cy="267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94000" y="1923480"/>
                      <a:ext cx="32220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5085360" y="2724840"/>
            <a:ext cx="438840" cy="379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85360" y="2724840"/>
                      <a:ext cx="438840" cy="3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5135760" y="3525480"/>
            <a:ext cx="343800" cy="370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35760" y="3525480"/>
                      <a:ext cx="343800" cy="37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5036040" y="1873440"/>
            <a:ext cx="275400" cy="301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036040" y="1873440"/>
                      <a:ext cx="27540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3401280" y="1873440"/>
            <a:ext cx="267480" cy="298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401280" y="1873440"/>
                      <a:ext cx="26748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4177440" y="3407400"/>
            <a:ext cx="454320" cy="306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177440" y="3407400"/>
                      <a:ext cx="454320" cy="30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3301920" y="3475800"/>
            <a:ext cx="348120" cy="3798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301920" y="3475800"/>
                      <a:ext cx="348120" cy="3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3648960" y="2424600"/>
              <a:ext cx="0" cy="110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06240" y="2777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2195640" y="5041800"/>
          <a:ext cx="5905440" cy="1816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95640" y="5041800"/>
                    <a:ext cx="59054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042920" y="2637000"/>
          <a:ext cx="1368360" cy="769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42920" y="2637000"/>
                    <a:ext cx="136836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’s rainb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linear map on momentum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keep the contraction between position and momentum lin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ual space is endowed with an energy dependent quadratic invari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476360" y="1125360"/>
          <a:ext cx="4248000" cy="5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125360"/>
                    <a:ext cx="4248000" cy="5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403280" y="3683160"/>
          <a:ext cx="3600360" cy="63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3683160"/>
                    <a:ext cx="3600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403280" y="5386320"/>
          <a:ext cx="4753080" cy="94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5386320"/>
                    <a:ext cx="47530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403280" y="2414520"/>
          <a:ext cx="6048360" cy="550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03280" y="2414520"/>
                    <a:ext cx="60483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82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doubly special relativity to gravity’s rainbow or deformed general relativ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97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nbow  gravity as an extension of DSR into a general rela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orrespondence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Modified equivalence principl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ly falling observers who take measurement with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ill observe the laws of physics to be the same as modified special rela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987640" y="2421000"/>
          <a:ext cx="216072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2421000"/>
                    <a:ext cx="21607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050920" y="5013360"/>
          <a:ext cx="4896000" cy="92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5013360"/>
                    <a:ext cx="4896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932360" y="3429000"/>
          <a:ext cx="211464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32360" y="3429000"/>
                    <a:ext cx="21146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556560" y="6308640"/>
            <a:ext cx="79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J. Magueijo and L. Smolin, Class.Quant.Grav.21, 1725 (2004). arXiv:gr-qc/03050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nbow metric and rainbow Einstein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bow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bow Einstein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050920" y="1700280"/>
          <a:ext cx="468000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700280"/>
                    <a:ext cx="4680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987640" y="2987640"/>
          <a:ext cx="252108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2987640"/>
                    <a:ext cx="2521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979640" y="4797360"/>
          <a:ext cx="511344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4797360"/>
                    <a:ext cx="5113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908000" y="4653000"/>
            <a:ext cx="525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80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FRW 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2187360"/>
            <a:ext cx="81471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ified 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24000" y="2781360"/>
          <a:ext cx="4321080" cy="9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2781360"/>
                    <a:ext cx="432108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340000" y="4005360"/>
          <a:ext cx="4319640" cy="239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4005360"/>
                    <a:ext cx="431964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124000" y="3933720"/>
            <a:ext cx="468144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050920" y="1341360"/>
          <a:ext cx="4608720" cy="5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0920" y="1341360"/>
                    <a:ext cx="4608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979640" y="1197000"/>
            <a:ext cx="4824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8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FRW 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47640" y="5445000"/>
          <a:ext cx="1511640" cy="57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5445000"/>
                    <a:ext cx="15116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104120" y="194004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e  is identified with the radiation 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635280" y="3068640"/>
          <a:ext cx="1368360" cy="43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5280" y="3068640"/>
                    <a:ext cx="1368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619280" y="4794120"/>
          <a:ext cx="4608360" cy="47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19280" y="4794120"/>
                    <a:ext cx="460836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187640" y="40766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at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70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FRW 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147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nection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rivial components of Riemann tens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ci tensor components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76360" y="1052640"/>
          <a:ext cx="4608360" cy="84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052640"/>
                    <a:ext cx="460836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627280" y="2205000"/>
          <a:ext cx="3206880" cy="199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7280" y="2205000"/>
                    <a:ext cx="320688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627280" y="4537080"/>
          <a:ext cx="3457440" cy="23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27280" y="4537080"/>
                    <a:ext cx="345744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608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FRW 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-momentum tensor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ve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tion equ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340000" y="5157720"/>
          <a:ext cx="268920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5157720"/>
                    <a:ext cx="26892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195640" y="2060640"/>
          <a:ext cx="4248000" cy="58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2060640"/>
                    <a:ext cx="42480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268360" y="3645000"/>
          <a:ext cx="475308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8360" y="3645000"/>
                    <a:ext cx="47530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5899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roduction: the semi-classical effect of quantum gravity and cosm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rom deformed special relativity to gravity’s rainb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dified FRW universe from rainbow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537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FRW 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 of the modified FRW equations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556000" y="2349360"/>
          <a:ext cx="353520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2349360"/>
                    <a:ext cx="35352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2340000" y="2276640"/>
            <a:ext cx="396072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608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FRW 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functio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843280" y="2011320"/>
          <a:ext cx="2016000" cy="6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2011320"/>
                    <a:ext cx="2016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43280" y="3068640"/>
          <a:ext cx="2065320" cy="56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3280" y="3068640"/>
                    <a:ext cx="20653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843280" y="3979800"/>
          <a:ext cx="3097080" cy="88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43280" y="3979800"/>
                    <a:ext cx="309708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916360" y="5300640"/>
          <a:ext cx="3448080" cy="880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6360" y="5300640"/>
                    <a:ext cx="344808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537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FRW 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eraged effect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627280" y="3213000"/>
          <a:ext cx="2736720" cy="21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3213000"/>
                    <a:ext cx="27367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843280" y="2060640"/>
          <a:ext cx="194292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3280" y="2060640"/>
                    <a:ext cx="19429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6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FRW 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eraged eff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84360" y="4365720"/>
          <a:ext cx="2263680" cy="11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365720"/>
                    <a:ext cx="22636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484360" y="2060640"/>
          <a:ext cx="2881440" cy="87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2060640"/>
                    <a:ext cx="288144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484360" y="3284640"/>
          <a:ext cx="1509840" cy="66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84360" y="3284640"/>
                    <a:ext cx="15098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537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FRW 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356000" y="3789360"/>
          <a:ext cx="10731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3789360"/>
                    <a:ext cx="10731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484360" y="1916280"/>
          <a:ext cx="3889440" cy="129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916280"/>
                    <a:ext cx="388944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556000" y="4005360"/>
          <a:ext cx="1100160" cy="59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56000" y="4005360"/>
                    <a:ext cx="11001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556000" y="5300640"/>
          <a:ext cx="942840" cy="441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5300640"/>
                    <a:ext cx="942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356000" y="4869000"/>
          <a:ext cx="2516400" cy="1182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56000" y="4869000"/>
                    <a:ext cx="251640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0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FRW 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ified equations from LQ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68360" y="2349360"/>
          <a:ext cx="3745080" cy="20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2349360"/>
                    <a:ext cx="374508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340000" y="5013360"/>
          <a:ext cx="2232000" cy="66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5013360"/>
                    <a:ext cx="22320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k 1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istics of photons with modified dispersion 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222200" y="2276640"/>
          <a:ext cx="266544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2200" y="2276640"/>
                    <a:ext cx="266544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187280" y="3429000"/>
          <a:ext cx="4032360" cy="91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3429000"/>
                    <a:ext cx="40323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716360" y="2492280"/>
          <a:ext cx="1152720" cy="41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2492280"/>
                    <a:ext cx="11527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187280" y="4869000"/>
          <a:ext cx="556920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4869000"/>
                    <a:ext cx="5569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k 1: Statistics of photons with modified dispersion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ied Stefan-Boltzmann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971640" y="1989000"/>
          <a:ext cx="705636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989000"/>
                    <a:ext cx="705636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971640" y="3490920"/>
          <a:ext cx="5905440" cy="76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3490920"/>
                    <a:ext cx="59054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042920" y="4653000"/>
          <a:ext cx="4754520" cy="76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4653000"/>
                    <a:ext cx="47545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1103400" y="5734080"/>
          <a:ext cx="2763720" cy="824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03400" y="5734080"/>
                    <a:ext cx="27637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877080" y="4835520"/>
          <a:ext cx="1224000" cy="384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77080" y="4835520"/>
                    <a:ext cx="12240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7380360" y="3645000"/>
          <a:ext cx="1224000" cy="336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380360" y="3645000"/>
                    <a:ext cx="12240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272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k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black hole phys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ified black holes will not evaporate totally, but have a  remnant which can be viewed as a candidate for dark ma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uh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and Conje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inbow gravity or deformed general relativity can be viewed as an effective theory at the semi-classical limit of quantum gravity. In this framework there is no single or fixed background spacetime, it depends on the energy of probes or test particl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e have considered some possible impacts on the FRW universe as well as Unruh effect and black holes in a heuristic way. More strict mathematical consideration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cheme presented here can be generalized 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orts of modified black hole solutio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jectures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Tunneling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ANK 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7705800" cy="48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wo fundamental issues in quantum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Dynamical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vity is a constrained syst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iffeomorphism invariance ---observ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amiltonian constraint----problem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Classical limit of quantum grav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e reconstruction of classical spac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Some problems related to loop quantum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Special relativity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zh-CN" sz="2400" spc="-1" strike="noStrike">
                <a:solidFill>
                  <a:srgbClr val="333399"/>
                </a:solidFill>
                <a:latin typeface="Times New Roman"/>
              </a:rPr>
              <a:t>Lorentz 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Testable signature of quantum gravi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                                         </a:t>
            </a:r>
            <a:r>
              <a:rPr b="0" i="1" lang="zh-CN" sz="2400" spc="-1" strike="noStrike">
                <a:solidFill>
                  <a:srgbClr val="333399"/>
                </a:solidFill>
                <a:latin typeface="Times New Roman"/>
              </a:rPr>
              <a:t>Gamma Ray Burst (2007</a:t>
            </a:r>
            <a:r>
              <a:rPr b="0" i="1" lang="zh-CN" sz="24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Particle physic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zh-CN" sz="2400" spc="-1" strike="noStrike">
                <a:solidFill>
                  <a:srgbClr val="333399"/>
                </a:solidFill>
                <a:latin typeface="Times New Roman"/>
              </a:rPr>
              <a:t>Ultra high energy cosmic 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Quantum cosmolog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333399"/>
                </a:solidFill>
                <a:latin typeface="Times New Roman"/>
              </a:rPr>
              <a:t>Big bang</a:t>
            </a:r>
            <a:r>
              <a:rPr b="0" i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0" i="1" lang="zh-CN" sz="2400" spc="-1" strike="noStrike">
                <a:solidFill>
                  <a:srgbClr val="333399"/>
                </a:solidFill>
                <a:latin typeface="Times New Roman"/>
              </a:rPr>
              <a:t>Inflation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Classical lim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：            </a:t>
            </a:r>
            <a:r>
              <a:rPr b="0" i="1" lang="zh-CN" sz="2400" spc="-1" strike="noStrike">
                <a:solidFill>
                  <a:srgbClr val="333399"/>
                </a:solidFill>
                <a:latin typeface="Times New Roman"/>
              </a:rPr>
              <a:t>Coherent states</a:t>
            </a:r>
            <a:r>
              <a:rPr b="0" i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0" i="1" lang="zh-CN" sz="2400" spc="-1" strike="noStrike">
                <a:solidFill>
                  <a:srgbClr val="333399"/>
                </a:solidFill>
                <a:latin typeface="Times New Roman"/>
              </a:rPr>
              <a:t>Gravi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lack Hole Physics:      </a:t>
            </a:r>
            <a:r>
              <a:rPr b="0" i="1" lang="zh-CN" sz="2400" spc="-1" strike="noStrike">
                <a:solidFill>
                  <a:srgbClr val="333399"/>
                </a:solidFill>
                <a:latin typeface="Times New Roman"/>
              </a:rPr>
              <a:t>Black hole remnant and information Para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85016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fate of Lorentz symmetry at Planck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4978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shold anomaly of ultra high energy cosmic ray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ZK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.Coleman and S.Glashow, Phys. Rev.D  59, 116008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J. Magueijo and L. Smolin, Phys. Rev. Lett(88) 190403,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dified dispersion relation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627280" y="3068640"/>
          <a:ext cx="318132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3068640"/>
                    <a:ext cx="3181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411280" y="5516640"/>
            <a:ext cx="3816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484360" y="5516640"/>
          <a:ext cx="3673440" cy="6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5516640"/>
                    <a:ext cx="367344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627280" y="2133720"/>
          <a:ext cx="3313080" cy="63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27280" y="2133720"/>
                    <a:ext cx="33130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68360" y="476280"/>
          <a:ext cx="3959280" cy="83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476280"/>
                    <a:ext cx="395928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19200" y="3516480"/>
          <a:ext cx="3035160" cy="117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0" y="3516480"/>
                    <a:ext cx="30351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727200" y="1992240"/>
          <a:ext cx="2411280" cy="69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7200" y="1992240"/>
                    <a:ext cx="24112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927600" y="1992240"/>
          <a:ext cx="4163760" cy="69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7600" y="1992240"/>
                    <a:ext cx="41637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870200" y="27543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08680" y="27543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98800" y="3059280"/>
          <a:ext cx="4462560" cy="160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98800" y="3059280"/>
                    <a:ext cx="446256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22280" y="1916280"/>
            <a:ext cx="32004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1916280"/>
            <a:ext cx="44956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5205240"/>
          <a:ext cx="1513080" cy="513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03280" y="5205240"/>
                    <a:ext cx="15130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995640" y="5229360"/>
          <a:ext cx="3743280" cy="449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95640" y="5229360"/>
                    <a:ext cx="3743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687760" y="5937120"/>
          <a:ext cx="2717640" cy="513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87760" y="5937120"/>
                    <a:ext cx="27176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dispersion relations as semi-classical effect of quantum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uantum mechanics                          General rel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nck L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nck Ma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2133720"/>
          <a:ext cx="36180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133720"/>
                    <a:ext cx="3618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059280" y="2781360"/>
          <a:ext cx="3054240" cy="62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9280" y="2781360"/>
                    <a:ext cx="30542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987640" y="3213000"/>
          <a:ext cx="4081320" cy="61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3213000"/>
                    <a:ext cx="4081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724360" y="2205000"/>
          <a:ext cx="365400" cy="392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24360" y="2205000"/>
                    <a:ext cx="3654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124000" y="5084640"/>
          <a:ext cx="4795920" cy="619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5084640"/>
                    <a:ext cx="47959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716360" y="6021360"/>
          <a:ext cx="2532240" cy="582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16360" y="6021360"/>
                    <a:ext cx="25322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124000" y="4149720"/>
          <a:ext cx="4484880" cy="527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24000" y="4149720"/>
                    <a:ext cx="44848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8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ree ways to obtain modified dispersion relations in semi-classcial approach to LQ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action of the Hamiltonian on the weave states in loop representati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.Gambini and J.Pullin, Phys. Rev. D 59, 124021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odama state in loop quantum gravity with a positive cosmological 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.Smolin, arXiv:hep-th/020907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herent states for quantum gra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.Sahlmann and T.Thiemann, Class. Quant. Grav. 23, 909 (2006). arXiv:gr-qc/020703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fate of Lorentz symmetry at Planck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ified dispersion relations from semiclassical LQ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835280" y="4508640"/>
          <a:ext cx="5040360" cy="64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4508640"/>
                    <a:ext cx="504036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908000" y="6021360"/>
          <a:ext cx="3942000" cy="635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6021360"/>
                    <a:ext cx="39420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979640" y="1268280"/>
          <a:ext cx="3344760" cy="51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1268280"/>
                    <a:ext cx="3344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0" y="2997360"/>
          <a:ext cx="1512720" cy="477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997360"/>
                    <a:ext cx="1512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835280" y="2997360"/>
          <a:ext cx="5236920" cy="1095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35280" y="2997360"/>
                    <a:ext cx="523692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979640" y="5084640"/>
          <a:ext cx="4465440" cy="938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5084640"/>
                    <a:ext cx="446544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835280" y="1989000"/>
          <a:ext cx="4516200" cy="525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35280" y="1989000"/>
                    <a:ext cx="45162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2:57:17Z</dcterms:created>
  <dc:creator>Lenovo User</dc:creator>
  <dc:description/>
  <dc:language>en-US</dc:language>
  <cp:lastModifiedBy>User</cp:lastModifiedBy>
  <dcterms:modified xsi:type="dcterms:W3CDTF">2006-11-04T00:55:56Z</dcterms:modified>
  <cp:revision>66</cp:revision>
  <dc:subject/>
  <dc:title>Quantum Gravity Phenomenology and Black Hole Physics</dc:title>
</cp:coreProperties>
</file>