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8.png" ContentType="image/png"/>
  <Override PartName="/ppt/media/image3.wmf" ContentType="image/x-wmf"/>
  <Override PartName="/ppt/media/image80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wmf" ContentType="image/x-wmf"/>
  <Override PartName="/ppt/media/image39.png" ContentType="image/png"/>
  <Override PartName="/ppt/media/image9.png" ContentType="image/png"/>
  <Override PartName="/ppt/media/image53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2.wmf" ContentType="image/x-wmf"/>
  <Override PartName="/ppt/media/image49.png" ContentType="image/png"/>
  <Override PartName="/ppt/media/image71.wmf" ContentType="image/x-wmf"/>
  <Override PartName="/ppt/media/image12.png" ContentType="image/png"/>
  <Override PartName="/ppt/media/image37.png" ContentType="image/png"/>
  <Override PartName="/ppt/media/image14.png" ContentType="image/png"/>
  <Override PartName="/ppt/media/image17.png" ContentType="image/png"/>
  <Override PartName="/ppt/media/image20.png" ContentType="image/png"/>
  <Override PartName="/ppt/media/image60.png" ContentType="image/png"/>
  <Override PartName="/ppt/media/image25.png" ContentType="image/png"/>
  <Override PartName="/ppt/media/image30.wmf" ContentType="image/x-wmf"/>
  <Override PartName="/ppt/media/image27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21.wmf" ContentType="image/x-wmf"/>
  <Override PartName="/ppt/media/image64.png" ContentType="image/png"/>
  <Override PartName="/ppt/media/image84.wmf" ContentType="image/x-wmf"/>
  <Override PartName="/ppt/media/image15.png" ContentType="image/png"/>
  <Override PartName="/ppt/media/image69.png" ContentType="image/png"/>
  <Override PartName="/ppt/media/image22.png" ContentType="image/png"/>
  <Override PartName="/ppt/media/image62.wmf" ContentType="image/x-wmf"/>
  <Override PartName="/ppt/media/image77.wmf" ContentType="image/x-wmf"/>
  <Override PartName="/ppt/media/image19.png" ContentType="image/png"/>
  <Override PartName="/ppt/media/image7.png" ContentType="image/png"/>
  <Override PartName="/ppt/media/image66.png" ContentType="image/png"/>
  <Override PartName="/ppt/media/image16.png" ContentType="image/png"/>
  <Override PartName="/ppt/media/image73.wmf" ContentType="image/x-wmf"/>
  <Override PartName="/ppt/media/image72.wmf" ContentType="image/x-wmf"/>
  <Override PartName="/ppt/media/image85.jpeg" ContentType="image/jpeg"/>
  <Override PartName="/ppt/media/image63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28.wmf" ContentType="image/x-wmf"/>
  <Override PartName="/ppt/media/image65.png" ContentType="image/png"/>
  <Override PartName="/ppt/media/image26.png" ContentType="image/png"/>
  <Override PartName="/ppt/media/image83.wmf" ContentType="image/x-wmf"/>
  <Override PartName="/ppt/media/image35.wmf" ContentType="image/x-wmf"/>
  <Override PartName="/ppt/media/image74.png" ContentType="image/png"/>
  <Override PartName="/ppt/media/image31.wmf" ContentType="image/x-wmf"/>
  <Override PartName="/ppt/media/image57.png" ContentType="image/png"/>
  <Override PartName="/ppt/media/image2.wmf" ContentType="image/x-wmf"/>
  <Override PartName="/ppt/media/image32.wmf" ContentType="image/x-wmf"/>
  <Override PartName="/ppt/media/image75.png" ContentType="image/png"/>
  <Override PartName="/ppt/media/image76.png" ContentType="image/png"/>
  <Override PartName="/ppt/media/image33.wmf" ContentType="image/x-wmf"/>
  <Override PartName="/ppt/media/image59.png" ContentType="image/png"/>
  <Override PartName="/ppt/media/image81.wmf" ContentType="image/x-wmf"/>
  <Override PartName="/ppt/media/image4.wmf" ContentType="image/x-wmf"/>
  <Override PartName="/ppt/media/image34.wmf" ContentType="image/x-wmf"/>
  <Override PartName="/ppt/media/image7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5.wmf" ContentType="image/x-wmf"/>
  <Override PartName="/ppt/media/image82.wmf" ContentType="image/x-wmf"/>
  <Override PartName="/ppt/media/image18.png" ContentType="image/png"/>
  <Override PartName="/ppt/media/image6.png" ContentType="image/png"/>
  <Override PartName="/ppt/media/image79.wmf" ContentType="image/x-wmf"/>
  <Override PartName="/ppt/media/image11.png" ContentType="image/png"/>
  <Override PartName="/ppt/media/image70.wmf" ContentType="image/x-wmf"/>
  <Override PartName="/ppt/media/image48.png" ContentType="image/png"/>
  <Override PartName="/ppt/media/image5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5D3-CE99-4D3B-BE47-B2BDD7EF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B92-1F08-4BF2-96E8-1B53B2CD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BF6-ED06-448E-B46A-31876207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1DE-6D35-45E0-8564-9F8DF7D4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0852-B2B6-4B7E-872D-2FDD9E36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3F0D-7EB5-4B48-BCCD-B08C53D6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FD70-B5B5-4891-A20A-0B9EEE26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C297-37CB-4AF0-B164-ED31569E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6548-9EA1-4F2A-9EC0-4017845D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A2B5-38EA-4F4C-9AD9-4A67ADCE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C6D8-22C6-47E4-B680-05BD22B3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E89-39CA-41F2-88FB-49132FE2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9583-6913-4BB4-8C06-DDD14E63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4AEC-EFFE-4BF3-8F9E-BC67064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2F95-3B08-4346-9D50-4F3BD252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55C4-2E0A-40D1-939D-270C2550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F44D-E2D3-4D6F-8435-B9792657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533-540E-432A-8D3C-9F423C94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A34-C87F-45F4-BD5F-933A3F0C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D16-1D2D-4C5E-A849-FABC168C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415-D28A-4C0C-B792-28CAB9CC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66C-5BCB-481B-9766-45AB375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BF5-BE95-4FF9-9EA4-B70B193D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2F3-7A16-4321-B212-AA50D73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87BA-9DDE-49FD-A373-1B3D57ABD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5840" y="1460520"/>
            <a:ext cx="16899480" cy="10794600"/>
            <a:chOff x="-7755840" y="1460520"/>
            <a:chExt cx="16899480" cy="10794600"/>
          </a:xfrm>
        </p:grpSpPr>
        <p:sp>
          <p:nvSpPr>
            <p:cNvPr id="45" name=""/>
            <p:cNvSpPr/>
            <p:nvPr/>
          </p:nvSpPr>
          <p:spPr>
            <a:xfrm>
              <a:off x="3273840" y="2710080"/>
              <a:ext cx="5869800" cy="41479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5840" y="1460520"/>
              <a:ext cx="1344780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AA90-641D-4A60-ABC9-CB070ED91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21960" y="954000"/>
            <a:ext cx="70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仿宋_GB2312"/>
              </a:rPr>
              <a:t>Some Remarks on Dark Energy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2520" y="3429000"/>
            <a:ext cx="48913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Rong-Gen Cai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蔡荣根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Institute of Theoretical 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hinese Academy of Science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1520" y="45720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2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“ Is Cosmic Speed-up due to New Gravitational Physics 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by S. M. Carroll et al. astro-ph/0306438,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Phys.Rev. D70 (2004) 0435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7543800" cy="1179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85840" y="1752480"/>
            <a:ext cx="76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Consider a modification becoming important at extremely low curvatu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6200" y="685800"/>
            <a:ext cx="74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Making  a conformal transformation yields a scalar field with potenti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5295960" cy="3676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2080" y="5257800"/>
            <a:ext cx="796392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1) Eternal de Sitter;  (2) power-law acceleration; (3) future singular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2457360" cy="6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2438280" cy="762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543800" cy="951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19480" y="42228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Howeve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1280" y="2362320"/>
            <a:ext cx="83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t is argued that this theory is not consistent with solar system t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048120"/>
            <a:ext cx="8305920" cy="3629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-qc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51103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n alternative explanation of the conflict between 1/R gravity and solar system t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G. Shao, R.G. Cai, B. Wang and R.K. 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.Lett. B633 (2006) 164-1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al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Dirac Cosmology and the Acceleration of the Contemporary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.G. Shao, J. Shen, B. Wang and R.K. S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Class.Quant.Grav. 23 (2006) 3707-3720, gr-qc/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050803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2440" y="6094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General ca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4600" y="1447920"/>
          <a:ext cx="31240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447920"/>
                    <a:ext cx="3124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09680" y="3124080"/>
            <a:ext cx="6629400" cy="1041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133720" y="4952880"/>
            <a:ext cx="5181480" cy="1144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0880" y="65088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More general cas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hep-th/0410031, P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71:063513,200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19960" cy="1447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315200" cy="90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22240" y="32418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Consid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38080" y="5105520"/>
            <a:ext cx="2219400" cy="942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657600" y="5105520"/>
            <a:ext cx="4952880" cy="936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4572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) Brane World Scen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115640" y="2276640"/>
            <a:ext cx="7621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31147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78120" y="227664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115640" y="4029120"/>
            <a:ext cx="7621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73200" y="204768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96880" y="3571920"/>
            <a:ext cx="12193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86160" y="371628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73200" y="17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344600" y="1743120"/>
          <a:ext cx="4572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743120"/>
                    <a:ext cx="457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2030400" y="235260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344240" y="410544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4867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78120" y="2352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35120" y="3571920"/>
            <a:ext cx="838080" cy="99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344240" y="2352600"/>
            <a:ext cx="7621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44600" y="319104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114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49520" y="3152880"/>
            <a:ext cx="1079280" cy="266760"/>
          </a:xfrm>
          <a:custGeom>
            <a:avLst/>
            <a:gdLst/>
            <a:ahLst/>
            <a:rect l="l" t="t" r="r" b="b"/>
            <a:pathLst>
              <a:path w="680" h="168">
                <a:moveTo>
                  <a:pt x="48" y="24"/>
                </a:moveTo>
                <a:cubicBezTo>
                  <a:pt x="364" y="12"/>
                  <a:pt x="680" y="0"/>
                  <a:pt x="672" y="24"/>
                </a:cubicBezTo>
                <a:cubicBezTo>
                  <a:pt x="664" y="48"/>
                  <a:pt x="104" y="144"/>
                  <a:pt x="0" y="16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1371600"/>
            <a:ext cx="5940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. Arkani-Hamed  et al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izable  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L. Randall and R. Sundrum, 199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ped product in AdS_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1655640" cy="622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431160" y="3962520"/>
            <a:ext cx="10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2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3124440" cy="1219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28320" y="5451480"/>
            <a:ext cx="54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) DGP model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a brane embedded in a Minkovski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7800" y="33012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a) A popular model: RSII sce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58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6840360" cy="1298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4640" y="3597120"/>
            <a:ext cx="11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4752720" cy="2514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164720" y="41148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391520" y="457164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840" y="5181480"/>
            <a:ext cx="2346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Fine-Tu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83360" y="3308400"/>
            <a:ext cx="244764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83360" y="3381480"/>
            <a:ext cx="2447640" cy="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1960" y="295200"/>
            <a:ext cx="22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b) DGP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7617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681120" y="25146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Then corresponding Friedman equ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335268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5638680" y="3429000"/>
            <a:ext cx="1752840" cy="6858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745200" y="4842000"/>
            <a:ext cx="76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Two branch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+):   normal one;  phantom if Lambda=\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-):    late-ti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960" y="380880"/>
            <a:ext cx="63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c)   “Dark Energy” on the brane world scen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aneworld models of dark energ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y V. Sahni and Y. Shtanov, astro-ph/020234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CAP 0311 (2003) 0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9624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5943600" cy="952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3520" y="3733920"/>
            <a:ext cx="2438280" cy="228600"/>
          </a:xfrm>
          <a:prstGeom prst="rightArrow">
            <a:avLst>
              <a:gd name="adj1" fmla="val 50000"/>
              <a:gd name="adj2" fmla="val 26665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760" y="560376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When m=0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590920" y="5791320"/>
            <a:ext cx="3647880" cy="799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8680" y="30492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n general they have two branch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086520" cy="866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7040" y="2743200"/>
            <a:ext cx="8886960" cy="3790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27400" y="684360"/>
            <a:ext cx="6080040" cy="520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The Concordance Model of the Univer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5800" y="2754360"/>
            <a:ext cx="90399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Inflation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  <a:ea typeface="黑体"/>
              </a:rPr>
              <a:t>⊕Big Bang ⊕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黑体"/>
              </a:rPr>
              <a:t>Dark Matter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  <a:ea typeface="黑体"/>
              </a:rPr>
              <a:t>⊕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黑体"/>
              </a:rPr>
              <a:t>Dark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(A.Guth, 1981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4%               23%        ⊕   73%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Challeng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黑体"/>
              </a:rPr>
              <a:t>Inflation model ? Dark matter ? Dark Energy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2360" y="153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880" y="180972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SNE + CMB + LSS (since 1998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4689360"/>
            <a:ext cx="2116080" cy="1125720"/>
          </a:xfrm>
          <a:prstGeom prst="ellipse">
            <a:avLst/>
          </a:prstGeom>
          <a:noFill/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5920" y="5815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8480" y="604044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 p = w ρ,    w= -1.04 )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8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553440" cy="4876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5896080" cy="4962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229600" cy="2820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17080" y="838080"/>
            <a:ext cx="80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Current value of the effective equation of state of “dark energ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095880" cy="4419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08320" y="270000"/>
            <a:ext cx="71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The acceleration can be a transient phenomenon: Bran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0040" y="5867280"/>
            <a:ext cx="79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However, equations of state for both branches cannot cross –1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89440" y="380880"/>
            <a:ext cx="78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Crossing w=-1 in Gauss-Bonnet Brane World with Induced Gravit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 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by R.G. Cai,H.S. Zhang and A. Wang, hep-th/05051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3243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57920" y="20574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Consider  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5162760" cy="129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5181840" cy="1778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05280" y="38088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The equations of mo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991480" cy="3219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0640" y="60948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The effective equation of state of “dark energy”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1000" y="5257800"/>
            <a:ext cx="835092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Where the Gauss-Bonnet term in the bulk and bulk mass play a curial ro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1240" y="30492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Another brane world model with crossing –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43000"/>
            <a:ext cx="807732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Super-acceleration on the Brane by Energy Flow from the Bulk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R.G. Cai, Y. Gong and B. Wang, JCAP 0603 (2006) 006, hep-th/051130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772400" cy="10666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39200" y="2556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Consider the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38080" y="5334120"/>
            <a:ext cx="6934320" cy="990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248160" cy="2209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23200" y="22860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Effective dynamic equ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447920" y="3124080"/>
            <a:ext cx="624816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9240" y="533520"/>
            <a:ext cx="562140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仿宋_GB2312"/>
              </a:rPr>
              <a:t>Model III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Back Reaction of  Fluctu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600200"/>
            <a:ext cx="8458200" cy="2533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smological influence of super-Hubble perturbation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y E.W. Kolb, S. Matarrese, A. Notari and A. Riotto, astro-ph/041054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Primordial inflation explains why the universe is accelerating today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by E.W. Kolb, S. Matarrese, A. Notari and A. Riotto, hep-th//050311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n cosmic acceleration without dark energy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宋体"/>
              </a:rPr>
              <a:t>by E.W. Kolb, S. Matarrese, and A. Riotto, astro-ph/05065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1905120"/>
            <a:ext cx="533160" cy="4190760"/>
          </a:xfrm>
          <a:custGeom>
            <a:avLst/>
            <a:gdLst>
              <a:gd name="textAreaLeft" fmla="*/ 71280 w 533160"/>
              <a:gd name="textAreaRight" fmla="*/ 461880 w 53316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4876920"/>
            <a:ext cx="8115120" cy="10094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3840" y="45720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Cosmic Accelera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33160" y="164160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Dynamics equ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90920" y="2438280"/>
          <a:ext cx="35049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438280"/>
                    <a:ext cx="35049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143000" y="441972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971800" y="4114800"/>
          <a:ext cx="259092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114800"/>
                    <a:ext cx="25909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17960" y="53341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Violate the Strong  Energy Condi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exotic energy compon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001000" cy="4570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4200" y="60948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nflation produces super-horizon perturbation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2120" y="609480"/>
            <a:ext cx="59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Consider the presence of cosmic perturbation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790960" cy="874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95200" y="266688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Split the gravitational potential to two p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124080" y="3352680"/>
            <a:ext cx="2371680" cy="581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57200" y="449568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209680" y="4876920"/>
            <a:ext cx="5372280" cy="14954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3581280" cy="10666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3600360" cy="1086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00960" y="304920"/>
            <a:ext cx="68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A local observer within the Hubble volume will s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209680" y="3962520"/>
            <a:ext cx="4657680" cy="1733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920" y="39625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209680" y="5867280"/>
            <a:ext cx="3505320" cy="6350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019920" y="4952880"/>
            <a:ext cx="2286000" cy="1067040"/>
          </a:xfrm>
          <a:prstGeom prst="wedgeRectCallout">
            <a:avLst>
              <a:gd name="adj1" fmla="val -67500"/>
              <a:gd name="adj2" fmla="val 82888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5105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smological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219720" cy="4143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068120" y="5527800"/>
            <a:ext cx="7110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which indicates the SHCDM with                                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indistinguishable  from LCDM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410080" y="5638680"/>
            <a:ext cx="2381400" cy="3524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1600" y="38088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Another scena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86800" cy="1074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6320" y="2743200"/>
            <a:ext cx="8915400" cy="3713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1040" y="38088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Beyond the super-horizon mode’s cut-off, the bulk universe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629400" cy="1035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91240" y="2666880"/>
            <a:ext cx="85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There is a super-horizon sized underdense bubble containing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observable universe, with matter density equal to the average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density we  measure lo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066680" y="4495680"/>
            <a:ext cx="7010640" cy="990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15328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6360" y="38088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Inhomogeneous Mod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1371600"/>
            <a:ext cx="8534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homogeneous spacetimes as a dark energy mode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. Garfinkle, gr-qc/0605088,  CQG23 (2006) 48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86868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47320" y="457200"/>
            <a:ext cx="850788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仿宋_GB2312"/>
              </a:rPr>
              <a:t>Model II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Various Dark Energy Models:  Acts as Source of E’e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895480" y="1447920"/>
          <a:ext cx="281952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447920"/>
                    <a:ext cx="28195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8960" y="2819520"/>
            <a:ext cx="484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Cosmological constant: w=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2) Holographic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3) Quintessence:  -1&lt;w&l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4) K-essence: -1 &lt;w&l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5) Chaplygin gas: p=- A/r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2819520"/>
            <a:ext cx="405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6) Phantom: w&lt;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7) Quin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8) Chameleon, K-Chamel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9) Vector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various generalization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mixture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096240" cy="1219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380680" y="3505320"/>
            <a:ext cx="42314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FT, a very successful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3124080"/>
            <a:ext cx="380880" cy="838440"/>
          </a:xfrm>
          <a:custGeom>
            <a:avLst/>
            <a:gdLst>
              <a:gd name="textAreaLeft" fmla="*/ 50760 w 380880"/>
              <a:gd name="textAreaRight" fmla="*/ 330120 w 38088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0640" y="914400"/>
            <a:ext cx="70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1) a very tiny positive cosmological constant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4800600"/>
            <a:ext cx="1905120" cy="45720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0960" y="4842000"/>
            <a:ext cx="607248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仿宋_GB2312"/>
              </a:rPr>
              <a:t>Variable cosmological constant? Interac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3040" y="6094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仿宋_GB2312"/>
              </a:rPr>
              <a:t>Dark Energ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01080" y="533520"/>
            <a:ext cx="257040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Observation D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11430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19480" y="1981080"/>
            <a:ext cx="342684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Theoretical Assum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73960" y="3276720"/>
            <a:ext cx="258120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General Rela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76520" y="3276720"/>
            <a:ext cx="241812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Cosmo Princip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 rot="16200000">
            <a:off x="4533120" y="1560960"/>
            <a:ext cx="685800" cy="2590920"/>
          </a:xfrm>
          <a:custGeom>
            <a:avLst/>
            <a:gdLst>
              <a:gd name="textAreaLeft" fmla="*/ 438120 w 685800"/>
              <a:gd name="textAreaRight" fmla="*/ 686160 w 6858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886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81080" y="4724280"/>
          <a:ext cx="281952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724280"/>
                    <a:ext cx="281952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 flipV="1">
            <a:off x="2209680" y="5409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14800" y="5409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3885840"/>
            <a:ext cx="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20000" y="6095880"/>
            <a:ext cx="120636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Model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48800" y="6095880"/>
            <a:ext cx="132516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Model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22480" y="6058080"/>
            <a:ext cx="144396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Model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080" y="76212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2) Holographic Energ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1295280"/>
            <a:ext cx="1981080" cy="18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E,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086600" y="1676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35760" y="12603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V,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24840" y="164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97480" y="22510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)  Bekenstein Boun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1524240" cy="4096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973440" y="38512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i)  Holographic Boun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267080" y="3749760"/>
            <a:ext cx="1905120" cy="503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96400" y="529920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ii) UV/IR Mixtu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657600" y="5181480"/>
            <a:ext cx="1371600" cy="552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105520" y="5410080"/>
            <a:ext cx="990360" cy="76320"/>
          </a:xfrm>
          <a:prstGeom prst="rightArrow">
            <a:avLst>
              <a:gd name="adj1" fmla="val 50000"/>
              <a:gd name="adj2" fmla="val 32441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172200" y="5181480"/>
            <a:ext cx="1990800" cy="505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335760" y="598500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Cohen et al,  Hsu, Li, Wang, Su…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10480" y="57456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3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Quintess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 very slowly varying scalar field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781680" y="464832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1680" y="64771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81680" y="5295960"/>
            <a:ext cx="2210040" cy="1193760"/>
          </a:xfrm>
          <a:custGeom>
            <a:avLst/>
            <a:gdLst/>
            <a:ahLst/>
            <a:rect l="l" t="t" r="r" b="b"/>
            <a:pathLst>
              <a:path w="1392" h="752">
                <a:moveTo>
                  <a:pt x="0" y="24"/>
                </a:moveTo>
                <a:cubicBezTo>
                  <a:pt x="208" y="12"/>
                  <a:pt x="416" y="0"/>
                  <a:pt x="576" y="120"/>
                </a:cubicBezTo>
                <a:cubicBezTo>
                  <a:pt x="736" y="240"/>
                  <a:pt x="824" y="752"/>
                  <a:pt x="960" y="744"/>
                </a:cubicBezTo>
                <a:cubicBezTo>
                  <a:pt x="1096" y="736"/>
                  <a:pt x="1320" y="184"/>
                  <a:pt x="1392" y="7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81680" y="4952880"/>
            <a:ext cx="304920" cy="228600"/>
          </a:xfrm>
          <a:prstGeom prst="smileyFace">
            <a:avLst>
              <a:gd name="adj" fmla="val 465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6600" y="5105520"/>
            <a:ext cx="380880" cy="759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3390840" cy="1647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837000" y="175248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Tracker Potential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2320" y="476568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4)  K-essence (Born-Infeld Scalar Field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743200" y="5334120"/>
            <a:ext cx="2514600" cy="658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16200" y="99072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5) Chaplygin ga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2362320" cy="700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191120" y="228600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743200" cy="822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353960" y="34704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Generaliz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2133720" y="4191120"/>
            <a:ext cx="2286000" cy="1141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5410080" y="4191120"/>
            <a:ext cx="2895840" cy="714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4400" y="106668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6) Phantom (Caldwell, 19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3581280" cy="13636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3581280" cy="13334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715000" y="3809880"/>
            <a:ext cx="152280" cy="221004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04080" y="3546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-1&lt;w&lt;0, if s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19920" y="55627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w&lt;-1, if s=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53240" y="762120"/>
            <a:ext cx="72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7)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Quint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: normal scalar field plus  phantom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38760" y="2590920"/>
            <a:ext cx="462456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W cross the phantom divide, w=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4572000" cy="549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62120" y="3352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B. Feng, X. Wang and X. Zhang, astro-ph/0404224, PLB 607 (2005) 35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03480" y="4510080"/>
            <a:ext cx="309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30200" y="463716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280" y="4375080"/>
            <a:ext cx="93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"A note on crossing the phantom divide in hybrid dark energy mode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8840" y="509436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H.Wei and R. G. Cai  PLB634 (2006) 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7360" y="68436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8)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Chameleon, K-Chamel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10200" y="1719360"/>
            <a:ext cx="58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J. Khoury  and A. Weltman, PRL93 (2004) 171104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H. Wei and R.G. Cai, PRD 71 (2005) 0435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9360" y="3745080"/>
            <a:ext cx="6136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9)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Vector fie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C. Armendariz-Picon,  JCAP 0407 (2004) 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H. Wei and R.G. Cai, PRD D73 (2006) 083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6320" y="304920"/>
            <a:ext cx="9388440" cy="5947200"/>
            <a:chOff x="76320" y="304920"/>
            <a:chExt cx="9388440" cy="5947200"/>
          </a:xfrm>
        </p:grpSpPr>
        <p:grpSp>
          <p:nvGrpSpPr>
            <p:cNvPr id="342" name=""/>
            <p:cNvGrpSpPr/>
            <p:nvPr/>
          </p:nvGrpSpPr>
          <p:grpSpPr>
            <a:xfrm>
              <a:off x="1463760" y="304920"/>
              <a:ext cx="5867280" cy="4952880"/>
              <a:chOff x="1463760" y="304920"/>
              <a:chExt cx="5867280" cy="495288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463760" y="304920"/>
                <a:ext cx="5867280" cy="4952880"/>
                <a:chOff x="1463760" y="304920"/>
                <a:chExt cx="5867280" cy="4952880"/>
              </a:xfrm>
            </p:grpSpPr>
            <p:pic>
              <p:nvPicPr>
                <p:cNvPr id="344" name="그래프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63760" y="304920"/>
                  <a:ext cx="5867280" cy="4952880"/>
                </a:xfrm>
                <a:prstGeom prst="rect">
                  <a:avLst/>
                </a:prstGeom>
                <a:ln w="9360">
                  <a:solidFill>
                    <a:srgbClr val="00ff00"/>
                  </a:solidFill>
                  <a:miter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4878360" y="2286000"/>
                  <a:ext cx="0" cy="28195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788640" y="1143000"/>
                <a:ext cx="23252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33"/>
                    </a:solidFill>
                    <a:latin typeface="Gulim"/>
                    <a:ea typeface="Gulim"/>
                  </a:rPr>
                  <a:t>Acceler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36480" y="2881440"/>
                <a:ext cx="23248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33"/>
                    </a:solidFill>
                    <a:latin typeface="Gulim"/>
                    <a:ea typeface="Gulim"/>
                  </a:rPr>
                  <a:t>Deceler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6320" y="362160"/>
              <a:ext cx="9388440" cy="5889960"/>
              <a:chOff x="76320" y="362160"/>
              <a:chExt cx="9388440" cy="5889960"/>
            </a:xfrm>
          </p:grpSpPr>
          <p:sp>
            <p:nvSpPr>
              <p:cNvPr id="349" name=""/>
              <p:cNvSpPr/>
              <p:nvPr/>
            </p:nvSpPr>
            <p:spPr>
              <a:xfrm>
                <a:off x="76320" y="362160"/>
                <a:ext cx="1768320" cy="14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ulim"/>
                    <a:ea typeface="Gulim"/>
                  </a:rPr>
                  <a:t>Distan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ulim"/>
                    <a:ea typeface="Gulim"/>
                  </a:rPr>
                  <a:t>between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ulim"/>
                    <a:ea typeface="Gulim"/>
                  </a:rPr>
                  <a:t>galaxi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88040" y="5134320"/>
                <a:ext cx="327672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ulim"/>
                    <a:ea typeface="Gulim"/>
                  </a:rPr>
                  <a:t>Time (Age of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ulim"/>
                    <a:ea typeface="Gulim"/>
                  </a:rPr>
                  <a:t>universe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01640" y="5121360"/>
                <a:ext cx="1752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ulim"/>
                    <a:ea typeface="Gulim"/>
                  </a:rPr>
                  <a:t>Beginnin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673440" y="5054760"/>
                <a:ext cx="2362320" cy="10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ulim"/>
                    <a:ea typeface="Gulim"/>
                  </a:rPr>
                  <a:t>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Gulim"/>
                    <a:ea typeface="Gulim"/>
                  </a:rPr>
                  <a:t>Now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ulim"/>
                    <a:ea typeface="Gulim"/>
                  </a:rPr>
                  <a:t>(13.7 billion years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1597680" y="434340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Inflation (acceler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1752480"/>
            <a:ext cx="1752480" cy="355680"/>
          </a:xfrm>
          <a:custGeom>
            <a:avLst/>
            <a:gdLst/>
            <a:ahLst/>
            <a:rect l="l" t="t" r="r" b="b"/>
            <a:pathLst>
              <a:path w="1104" h="224">
                <a:moveTo>
                  <a:pt x="0" y="32"/>
                </a:moveTo>
                <a:cubicBezTo>
                  <a:pt x="292" y="16"/>
                  <a:pt x="584" y="0"/>
                  <a:pt x="768" y="32"/>
                </a:cubicBezTo>
                <a:cubicBezTo>
                  <a:pt x="952" y="64"/>
                  <a:pt x="1056" y="192"/>
                  <a:pt x="1104" y="224"/>
                </a:cubicBezTo>
              </a:path>
            </a:pathLst>
          </a:cu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57200"/>
            <a:ext cx="723960" cy="1371600"/>
          </a:xfrm>
          <a:custGeom>
            <a:avLst/>
            <a:gdLst/>
            <a:ahLst/>
            <a:rect l="l" t="t" r="r" b="b"/>
            <a:pathLst>
              <a:path w="456" h="864">
                <a:moveTo>
                  <a:pt x="0" y="864"/>
                </a:moveTo>
                <a:cubicBezTo>
                  <a:pt x="156" y="600"/>
                  <a:pt x="312" y="336"/>
                  <a:pt x="384" y="192"/>
                </a:cubicBezTo>
                <a:cubicBezTo>
                  <a:pt x="456" y="48"/>
                  <a:pt x="424" y="32"/>
                  <a:pt x="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41800" y="199224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losed, rho&lt;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3320" y="76212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cc.(-1 &lt;w&lt;-1/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82440" y="16344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up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cc. (w&lt;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57800" y="1082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1447920"/>
            <a:ext cx="76176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0" y="192"/>
                </a:moveTo>
                <a:cubicBezTo>
                  <a:pt x="196" y="112"/>
                  <a:pt x="392" y="32"/>
                  <a:pt x="4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1320" y="1371600"/>
            <a:ext cx="175248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cubicBezTo>
                  <a:pt x="244" y="164"/>
                  <a:pt x="488" y="88"/>
                  <a:pt x="672" y="48"/>
                </a:cubicBezTo>
                <a:cubicBezTo>
                  <a:pt x="856" y="8"/>
                  <a:pt x="1032" y="8"/>
                  <a:pt x="110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91520" y="1447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70400" y="130644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xpa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ut w&gt;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-2160" y="6338880"/>
            <a:ext cx="94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he fate of our universe depends on the nature of dark energy, not only the geo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320" y="60958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66440" y="326088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Radiation + du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6880" y="1550880"/>
            <a:ext cx="25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ark energy dominat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203920" y="1676520"/>
            <a:ext cx="4480200" cy="15570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Thanks!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4080" y="22860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Dark energy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480" y="1219320"/>
            <a:ext cx="600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(3)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仿宋_GB2312"/>
              </a:rPr>
              <a:t>The state parameter crosses –1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19520" y="1371600"/>
          <a:ext cx="22860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1600"/>
                    <a:ext cx="2286000" cy="5554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819520" y="2514600"/>
          <a:ext cx="40384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514600"/>
                    <a:ext cx="4038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286000" y="3886200"/>
            <a:ext cx="4800600" cy="237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4920" y="624852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D. Huterer and A. Cooray, astro-ph/0404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5400" y="574560"/>
            <a:ext cx="6455160" cy="45972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仿宋_GB2312"/>
              </a:rPr>
              <a:t>Model I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Modifications of Gravitational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560" y="20574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)   GR’s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7524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10240" y="1600200"/>
            <a:ext cx="23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UV: ~ 1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R:  ~ solar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840" y="4572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2) Modify G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39625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99320" y="3699000"/>
            <a:ext cx="37818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UV: quantum gravity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R:   cosmos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Brane World Scen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Scalar-Tensor Theory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2080" y="57456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ff"/>
                </a:solidFill>
                <a:uFillTx/>
                <a:latin typeface="Times New Roman"/>
                <a:ea typeface="仿宋_GB2312"/>
              </a:rPr>
              <a:t>Modifying GR in I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4960" y="1676520"/>
            <a:ext cx="873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“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Ghost Condensation and a Consistent Infrared Modification of Gravity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by N. arkani-Hamed et al, hep-th/0312099,JHEP 0405 (2004) 07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82240" cy="3352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4419720" cy="380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05920" cy="175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3429000" cy="428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4876920" cy="381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43080" y="3733920"/>
            <a:ext cx="3238200" cy="761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2760" y="2971800"/>
            <a:ext cx="72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Consider a ghost field with a wrong-sign kinetic term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80880" y="4876920"/>
            <a:ext cx="8572680" cy="695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80880" y="5562720"/>
            <a:ext cx="5715000" cy="361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38188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8160" y="57456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Suppose the scalar field has a constant veloci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830592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6120" y="3622680"/>
            <a:ext cx="86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The low-energy effective action for the fluctuation has an usual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1:43:46Z</dcterms:created>
  <dc:creator>cairg</dc:creator>
  <dc:description/>
  <dc:language>en-US</dc:language>
  <cp:lastModifiedBy>CAI</cp:lastModifiedBy>
  <cp:lastPrinted>1900-01-04T05:48:54Z</cp:lastPrinted>
  <dcterms:modified xsi:type="dcterms:W3CDTF">2006-11-03T03:35:41Z</dcterms:modified>
  <cp:revision>58</cp:revision>
  <dc:subject/>
  <dc:title>PowerPoint 演示文稿</dc:title>
</cp:coreProperties>
</file>